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2A678-52B8-43D0-B554-39FCD90029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66527-41D6-4C47-9FD5-C505B76A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F2A7C-F9A5-4343-8F04-1031C8FF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B3C70-7D35-4192-8424-D5FD736D08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79781-780F-4BC8-971C-EA96142543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3EB7D-371C-4D47-8190-DC3F0658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26E48-228A-47C0-9680-457CD0FB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9CA50-E934-4952-8489-6D857524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F2AB5-DC59-4C61-99A5-DCEBCF4E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0F290-11E0-45B2-A213-95A01DF3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0BEDE-03E4-4088-9325-E5A04801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64D44-9113-4ADB-8115-027A15CD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37B57-0370-4C51-9DC0-DB0C3710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73051-F9D1-48FB-88AA-C7628A29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2A765-D007-4C34-AC90-ABDD7016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14A2A-9E63-4DE8-A93F-B16D34E2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12B17-978B-4EF0-84F1-5B86600644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3B8E-12FF-4521-9F63-5F70668839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D518-C4FE-4A71-A90E-4AE72422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72F1-B6F9-4E00-A617-30DBA6DC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68A6-AEE7-4AB6-B9EB-0BDB9980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6D76-8A2B-40FD-9C34-F66597C3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E1217-F46B-4D98-B65B-769EC335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9A54-7A3B-46EA-B882-1D674A1E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6692-F7CD-451D-8054-3D43AEA6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2C91-EDC7-424C-93B3-905A8B7E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AEF2-A0AC-4B85-BB30-E9A4FC97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6D7D-1B22-4F14-832A-81FC89EE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4A52-5AF0-4136-8F56-966B0F6D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AC02-11F7-47E0-91E9-7E632F9402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28572-31D7-4DDE-A80F-2690C64617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A16B5-E23C-4B67-9647-ED438840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33AD7C-D89F-4DA5-8201-92DDC1BA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4812F-9CB8-4683-BB41-2AE1803D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5A937-4998-4FD4-A3ED-85227587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7BE33-877D-474A-BB3C-E9078CA7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32925-D04B-4297-BB2E-25F56359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BF818-FC84-4932-A843-3E3D82AE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AFFEE3-D3F6-4CC4-858E-135289BE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6D85F-FC98-4BCF-96B1-BDB35257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95F06-8BFA-4AEC-9106-31DDD04F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28475-AE26-47E3-B128-8E669E3D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1A56A-538B-459D-8B77-3E6D0819E2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31C1D8-6D68-4151-BF4A-7E3C4FED8E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2A58B-FEA6-44E8-86C5-B2A17128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9CDFB7-5A06-4CEE-82A4-84F93ABE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443522-055D-4788-B62F-19BAEA0F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2414AE-1C68-45DB-9D14-CDB113E6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3C6884-2DBD-413D-9F98-E4F73BC2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AB1154-CF0B-49A1-9B59-1437E48E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6E2FEE-D732-456C-8486-F333343E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AD0D79-3990-4BA4-AED5-71CE43E6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242DFA-4648-4F77-A28A-1D44FC5C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33395B-FE8C-41CB-BBEE-B7D46F98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158E92-E169-42F8-840E-CF958676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5405B-1BCC-4404-8FE4-A6C4C1D4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3821C1-81A2-4308-8C59-609DF82D34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0A957-7715-4796-9EDC-89E763D7DF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6BDB5-0CF5-43C4-9215-26FB45E8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AC2AB-4C51-4B30-BCE5-147C0696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46B08-5A5B-4B2A-83B4-8C8BB294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5A6BF-FFF9-4E6E-84F6-09138D7A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C75EA-F88F-4DC1-A675-F8441952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D36F5-E86E-4969-B212-727AA67B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FEDFF-2098-4ED4-A022-4AB1E430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B1786-9AF1-4503-B922-4C8B6356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105A4-5F5B-4D8F-B5C5-E281C35A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94F3E-533D-4B75-B62E-C1399940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89E85-E5F7-4996-B521-D44D26AA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E95E1-DED5-4A44-9896-11F62FEA58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0B08C0-BEE5-4788-902F-AB9E504507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5F9E31-FAB4-4910-997B-41FBBB7B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57FFA1-B9EF-4F44-B854-CA194683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EF2725-4DA5-4947-A6E8-C2D0E104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35FA6-67FC-41EF-9AF7-019C8449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09A3FA-8676-4666-9E13-1EAC2E93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935ABD-C62B-45AF-837B-F00AE41F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58DFD-6A7E-4C54-867D-3123DB05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FB49E2-A1A1-402D-86EF-3971F15D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38D178-2890-4B7D-929C-461428D7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0563C2-C9AE-4827-BBD2-A715E49A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1BDE2E-0F7B-49E4-995F-654B3C97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EC1B5A-5888-45A5-9DDE-A7472F4368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FDF70-7E40-49E2-ACBB-35BA541C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C0E7DD-67AD-4A83-BDE5-35DD8B4CF73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251990-989A-461B-A8AF-40B54164E5B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6271C7-0E54-4AED-8B9F-BF8DAB1EA00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E10457-B9E9-4B84-8D3D-B9670124B1C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FE8684-3C8F-43C3-B730-02BC90B65CC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2B5D1E-279B-404D-872D-D56C55103C4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0E2518-DB49-4E57-84E5-11828D66B91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Из опыта работы</a:t>
            </a: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 «Неделя финансовой грамотности в 5-11 классах»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азанцева Лена Фаат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Учитель истории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обществозн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МБОУ «Большеусин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уединский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Неделя финансовой грамотности в школе проводится второй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Содействие повышению уровня информированности детей и молодежи по вопросам личных финансов , способствовать повышению навыков грамотного решения финансовых в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Главной мотивацией участия 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тей в мероприятиях Недели   становятся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ньги,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изданные организатором Недели. Все заработанные в течение недели деньги, можно было потратить на аукционе, предложив свою большую цену за това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лан недели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конкурс методических разработок Казанцева Л.Ф.МБОУ Большеусинская СОШ\Разработка Казанцевой Л.Ф.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214280" y="3286080"/>
            <a:ext cx="42148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  <a:ea typeface="Microsoft YaHei"/>
              </a:rPr>
              <a:t>Деловая игра «Юный бизнесмен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</a:t>
            </a: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 Развитие финансовой грамотност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Суть игры: детям 5-11 классов предлагается продать за деньги, или обменять  изделия, выполненные своими руками: мыло, кольца и браслеты из бисера, изделия из бумаги, вышитые , связанные изделия и т.д. Наибольшей популярностью стали изделия из песочного теста, блины, пироги с яблокам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 актовом зале были поставлены столы, на которых расположились юные предприниматели. Цены были оговорены заранее, реклама изделий выполнена учащимися и помещена на этажах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о время больших перемен ребята продавали свои изделия  школьникам, работникам школы. Наибольшую прибыль получила девочка 6 класса, изготавливающая мыло ручн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28760" y="192240"/>
            <a:ext cx="2643120" cy="3512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929200" y="312840"/>
            <a:ext cx="2857680" cy="3797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00200" y="1476360"/>
            <a:ext cx="37864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Мозгобатл «Деньги вчера , сегодня, завтра»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Интеллектуальная игра для учащихся 7-11 кла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1 Игра «Что?Где?Когда?», 2 игра «Отгадай рекламу», 3 игра – отгадай имя певца или название группы «Кто поет о деньгах», 4 игра «Отгадай кадр из фильма , где находятся деньг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Победители и призеры, а также участники в качестве призов  получают деньги, выпущенные организатором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285920" y="237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071960" y="642960"/>
            <a:ext cx="4214880" cy="5619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1857240" y="3738600"/>
            <a:ext cx="234000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Школьный тур олимпиады по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Функциональную грамотнрсть\фг 7-9 класс.pdf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Функциональную грамотность\задания по ЧГ 5-6 классы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одведение итогов Недели. Аукцион.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000680" y="642960"/>
            <a:ext cx="3357360" cy="4476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71720" y="117324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143760" y="342900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52:50Z</dcterms:created>
  <dc:creator>Acer-Kab-10</dc:creator>
  <dc:description/>
  <dc:language>en-US</dc:language>
  <cp:lastModifiedBy>Пользователь Windows</cp:lastModifiedBy>
  <dcterms:modified xsi:type="dcterms:W3CDTF">2022-11-24T16:56:17Z</dcterms:modified>
  <cp:revision>8</cp:revision>
  <dc:subject/>
  <dc:title>Из опыта работы  «Неделя финансовой грамотности в 5-11 классах»</dc:title>
</cp:coreProperties>
</file>